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ED1-F34F-4BCF-97FD-24BD092FD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CF9-EBED-44C8-8E15-2692F01D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DF49-F6C6-44E0-9177-8E8256B0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85C-8B8C-4194-9FBF-445E1E68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EF07-5A00-42D5-9307-4707C4F9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B19-1498-498C-9FB8-CF126B2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025-FE23-4168-9AFE-6032CBE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5FD-9653-4207-8225-17AB35BB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F0E-30D9-42E6-90D0-4FBA7D0A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D58B-BEC9-4450-8B6E-0873498F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6464-1C3D-45EC-BDC7-CF0AB67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2D09-962E-4C74-AE0B-49532B41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7B65-DC8E-4FE9-91DD-68609340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16720" y="2492280"/>
          <a:ext cx="2232000" cy="19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492280"/>
                    <a:ext cx="223200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08000" y="189000"/>
            <a:ext cx="6284880" cy="630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6659640" y="4508640"/>
          <a:ext cx="2016000" cy="187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4508640"/>
                    <a:ext cx="201600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659640" y="115920"/>
          <a:ext cx="1936800" cy="230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59640" y="115920"/>
                    <a:ext cx="193680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408720" cy="6297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6588000" y="2060640"/>
          <a:ext cx="2238480" cy="28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2060640"/>
                    <a:ext cx="22384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720" y="404640"/>
          <a:ext cx="2103480" cy="22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720" y="404640"/>
                    <a:ext cx="2103480" cy="22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189000"/>
            <a:ext cx="6372360" cy="627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6804000" y="4762440"/>
          <a:ext cx="2160720" cy="208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4000" y="4762440"/>
                    <a:ext cx="21607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6732720" y="2708280"/>
          <a:ext cx="2087280" cy="207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732720" y="2708280"/>
                    <a:ext cx="2087280" cy="20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300720" cy="625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6588000" y="1700280"/>
          <a:ext cx="2303640" cy="273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88000" y="1700280"/>
                    <a:ext cx="23036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588000" y="3284640"/>
          <a:ext cx="2362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3284640"/>
                    <a:ext cx="2362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588000" y="692280"/>
          <a:ext cx="2303640" cy="19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30364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64436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6372360" cy="63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7093080" y="1989000"/>
          <a:ext cx="1396800" cy="195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989000"/>
                    <a:ext cx="139680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8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385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38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8:34:23Z</dcterms:created>
  <dc:creator>Dr. Szilassi Lajos</dc:creator>
  <dc:description/>
  <dc:language>en-US</dc:language>
  <cp:lastModifiedBy>Dr. Szilassi Lajos</cp:lastModifiedBy>
  <dcterms:modified xsi:type="dcterms:W3CDTF">2010-03-17T06:05:32Z</dcterms:modified>
  <cp:revision>12</cp:revision>
  <dc:subject/>
  <dc:title>1. dia</dc:title>
</cp:coreProperties>
</file>