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F570-E41B-4E28-AB71-F3C7111F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F679-4CCD-47EA-90ED-FC177B50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11D1-755D-4B11-9D94-A0C997730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A68-B0B0-42CF-B48D-A4DEB157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52C4-EFB5-45F7-BD8D-50B1CD99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2A94-296D-4C2D-9041-D69FA11E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11E0-F605-4936-9968-1EAC867A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B716-B429-44E6-9CEC-E0440DB5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AC4C-AEBA-40C9-B952-313AFE48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E607-947A-4B50-8AFF-99490CFC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63F-28FF-49C0-8BC3-A86FD122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8D4C-5E0D-4C2B-8465-34C15630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D358-149E-4003-B155-0CE08CCA4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3640" y="0"/>
            <a:ext cx="74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3  faces, version A           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60292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3640" y="0"/>
            <a:ext cx="74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3  faces, version B           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49780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2360" y="189000"/>
            <a:ext cx="74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4  faces, version A           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200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3640" y="189000"/>
            <a:ext cx="74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4  faces, version B           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383680" cy="57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2360" y="260280"/>
            <a:ext cx="74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5  faces, version A           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385120" cy="57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45440" y="260280"/>
            <a:ext cx="69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5  faces, version B    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024760" cy="55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5080" y="189000"/>
            <a:ext cx="71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5  faces, version C      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35200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4328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4000" y="260280"/>
            <a:ext cx="74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3,6} and {6,3} map: F=15  faces, version D             Type: locally re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3138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9:39:37Z</dcterms:created>
  <dc:creator>Dr. Szilassi Lajos</dc:creator>
  <dc:description/>
  <dc:language>en-US</dc:language>
  <cp:lastModifiedBy>Dr. Szilassi Lajos</cp:lastModifiedBy>
  <dcterms:modified xsi:type="dcterms:W3CDTF">2010-03-17T06:34:21Z</dcterms:modified>
  <cp:revision>15</cp:revision>
  <dc:subject/>
  <dc:title>1. dia</dc:title>
</cp:coreProperties>
</file>