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2BB-671D-4A34-AEA9-3723D3D23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3D60-CEF8-4B8D-A634-C6CE04E3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321-974B-4D18-A92F-83CA36FD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763-C5AC-4A1F-8A40-635D5597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C0A-183C-4533-8D40-05CBB57A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B72-232B-4625-ADAE-71CBCFAD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665-76E6-4AC0-847C-B73BDB16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FE73-7BB4-4D9E-BDB8-9574050C9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6FF9-3576-4C09-9CC4-683CC8BB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48F-8AE1-4736-BDC4-2475B375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002-9C0A-48B4-98EA-4AE40A9F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938-2329-40C7-9308-4E899E40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085A-D6B9-4E54-8C1D-AF7AA5578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68360" y="333360"/>
          <a:ext cx="15127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15127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1844640"/>
            <a:ext cx="1728720" cy="8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95280" y="3552840"/>
            <a:ext cx="1800360" cy="1563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611280" y="5229360"/>
          <a:ext cx="1511280" cy="136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229360"/>
                    <a:ext cx="1511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2987640" y="3573360"/>
          <a:ext cx="5329440" cy="317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3573360"/>
                    <a:ext cx="5329440" cy="31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059280" y="203040"/>
          <a:ext cx="5262480" cy="314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203040"/>
                    <a:ext cx="52624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3:12:50Z</dcterms:created>
  <dc:creator>Dr. Szilassi Lajos</dc:creator>
  <dc:description/>
  <dc:language>en-US</dc:language>
  <cp:lastModifiedBy>Dr. Szilassi Lajos</cp:lastModifiedBy>
  <dcterms:modified xsi:type="dcterms:W3CDTF">2010-03-31T12:45:27Z</dcterms:modified>
  <cp:revision>6</cp:revision>
  <dc:subject/>
  <dc:title>1. dia</dc:title>
</cp:coreProperties>
</file>