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5BC2-AD47-4D40-B07A-BDC350BC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4E55-FA12-4B3F-8ECB-04492F64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7787-F3FD-4116-BF2A-26BC1BC0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30AF-7656-47C5-8BB9-DE3CD76B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964A-635A-41AA-8B19-424ADEB0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B250-4342-4B97-91F2-AA0E0550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CF4D-7012-4B61-AB3B-4CF8D2F8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374D-DFC0-4B01-BE10-057E1401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BBF0-164F-4272-AC9D-07FDEB05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F1BE-B2EF-4132-B775-8236960F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498C-95BC-4CA8-859A-90819FD3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7053-6784-461A-B4EA-746686D6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FECC-F9F0-4D98-BE04-3873FF0F1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7600" y="0"/>
            <a:ext cx="74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7  faces, version A (unique)  Type: loc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772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45440" y="0"/>
            <a:ext cx="73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12  faces, version D         Type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lob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33360" y="527040"/>
            <a:ext cx="84772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7600" y="0"/>
            <a:ext cx="74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8  faces, version A  (unique) Type: loc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772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3640" y="0"/>
            <a:ext cx="72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9  faces, version A            Type: loc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772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3640" y="0"/>
            <a:ext cx="74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9  faces, version B              Type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lob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772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7960" y="0"/>
            <a:ext cx="75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10 faces, version A (unique)  Type: loc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772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7960" y="0"/>
            <a:ext cx="75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11 faces, version A (unique)  Type: loc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33360" y="455760"/>
            <a:ext cx="84772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4360" y="0"/>
            <a:ext cx="72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12  faces, version A          Type: loc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33360" y="455760"/>
            <a:ext cx="84772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4720" y="0"/>
            <a:ext cx="70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12  faces, version B        Type: loc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33360" y="455760"/>
            <a:ext cx="84772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45440" y="0"/>
            <a:ext cx="70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12  faces, version C       Type: loc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33360" y="455760"/>
            <a:ext cx="84772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9:39:37Z</dcterms:created>
  <dc:creator>Dr. Szilassi Lajos</dc:creator>
  <dc:description/>
  <dc:language>en-US</dc:language>
  <cp:lastModifiedBy>Dr. Szilassi Lajos</cp:lastModifiedBy>
  <dcterms:modified xsi:type="dcterms:W3CDTF">2010-03-17T06:41:43Z</dcterms:modified>
  <cp:revision>10</cp:revision>
  <dc:subject/>
  <dc:title>1. dia</dc:title>
</cp:coreProperties>
</file>